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9.png" ContentType="image/png"/>
  <Override PartName="/ppt/media/image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9D04-CF51-4A7B-A1C7-ABA3A728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3339-ABE2-4945-9B08-E74E59B7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4AC2-07F2-4919-853C-BBE365830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BF1A-ECAC-46B2-811D-13AA4801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7AB0-3281-41EB-912D-4275F1CF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0EFE-E325-4A01-88AF-AF95F5B4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E963-D195-41C4-909A-34484AD7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0B30-E7DA-4790-8FC7-A1DE7B09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7AC5-E4E8-4711-95E7-9FBD1998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F150-2F66-4FC7-8828-375BE9CB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0E77-5354-4408-8D57-79E7F754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118F-3D7B-426B-9524-8AD97E3B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6738-B652-4EF6-9CCC-724F7137C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219320"/>
            <a:ext cx="8381880" cy="25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y I Invite Danny and Jenny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80880"/>
            <a:ext cx="307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冀教版 五年级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1577880"/>
            <a:ext cx="8686800" cy="5280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371600" y="2362320"/>
            <a:ext cx="1676520" cy="3808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09680" y="1981080"/>
            <a:ext cx="609840" cy="3049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238880" y="2438280"/>
            <a:ext cx="685800" cy="3049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3581280"/>
            <a:ext cx="609480" cy="38124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3962520"/>
            <a:ext cx="1219320" cy="38088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5029200"/>
            <a:ext cx="1523880" cy="68580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6172200"/>
            <a:ext cx="533520" cy="3049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029200" y="0"/>
            <a:ext cx="2286000" cy="1752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514600" y="0"/>
            <a:ext cx="2514600" cy="1752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7315200" y="0"/>
            <a:ext cx="1828800" cy="1752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438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00400" y="228600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6094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Make a dialogue in your grou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447920"/>
            <a:ext cx="3886200" cy="1371600"/>
          </a:xfrm>
          <a:prstGeom prst="wedgeEllipseCallout">
            <a:avLst>
              <a:gd name="adj1" fmla="val 42564"/>
              <a:gd name="adj2" fmla="val 61574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This is___. May I __________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1523880"/>
            <a:ext cx="2971800" cy="914400"/>
          </a:xfrm>
          <a:prstGeom prst="wedgeEllipseCallout">
            <a:avLst>
              <a:gd name="adj1" fmla="val -43000"/>
              <a:gd name="adj2" fmla="val 89412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971800"/>
            <a:ext cx="3124080" cy="1447920"/>
          </a:xfrm>
          <a:prstGeom prst="wedgeEllipseCallout">
            <a:avLst>
              <a:gd name="adj1" fmla="val 63111"/>
              <a:gd name="adj2" fmla="val -29935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w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_____with 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24480" y="3581280"/>
            <a:ext cx="2819520" cy="990720"/>
          </a:xfrm>
          <a:prstGeom prst="wedgeEllipseCallout">
            <a:avLst>
              <a:gd name="adj1" fmla="val -65708"/>
              <a:gd name="adj2" fmla="val -6281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ill we g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4495680"/>
            <a:ext cx="2667240" cy="1067040"/>
          </a:xfrm>
          <a:prstGeom prst="wedgeEllipseCallout">
            <a:avLst>
              <a:gd name="adj1" fmla="val 47143"/>
              <a:gd name="adj2" fmla="val -118152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____in the 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10080" y="4572000"/>
            <a:ext cx="3124440" cy="1143000"/>
          </a:xfrm>
          <a:prstGeom prst="wedgeEllipseCallout">
            <a:avLst>
              <a:gd name="adj1" fmla="val -51115"/>
              <a:gd name="adj2" fmla="val -101805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, see you later. By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5791320"/>
            <a:ext cx="8991720" cy="838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 basketball   buy clothes  go to the cinema   go to Beijing     go to the z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838080" y="1828800"/>
          <a:ext cx="8229600" cy="22860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22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What did you learn in this class?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614880" y="990720"/>
            <a:ext cx="293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90720" y="106668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Homewo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8195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给自己的好朋友或父母用英语打个电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05120" y="1295280"/>
            <a:ext cx="586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cc"/>
                </a:solidFill>
                <a:latin typeface="Comic Sans MS"/>
              </a:rPr>
              <a:t>Sing a so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14400" y="1752480"/>
            <a:ext cx="3809880" cy="2610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648320" y="1752480"/>
            <a:ext cx="3809880" cy="2610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rot="5400000">
            <a:off x="4190760" y="-1219320"/>
            <a:ext cx="1066680" cy="5791320"/>
          </a:xfrm>
          <a:custGeom>
            <a:avLst/>
            <a:gdLst>
              <a:gd name="textAreaLeft" fmla="*/ 681480 w 1066680"/>
              <a:gd name="textAreaRight" fmla="*/ 1067040 w 1066680"/>
              <a:gd name="textAreaTop" fmla="*/ 150840 h 5791320"/>
              <a:gd name="textAreaBottom" fmla="*/ 5640480 h 579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09"/>
                </a:lnTo>
                <a:cubicBezTo>
                  <a:pt x="10800" y="10109"/>
                  <a:pt x="5400" y="11009"/>
                  <a:pt x="0" y="11009"/>
                </a:cubicBezTo>
                <a:cubicBezTo>
                  <a:pt x="5400" y="11009"/>
                  <a:pt x="10800" y="11909"/>
                  <a:pt x="10800" y="1280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30492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Comic Sans MS"/>
              </a:rPr>
              <a:t>fo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123720" y="4114800"/>
            <a:ext cx="83844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518148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eco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4114800"/>
            <a:ext cx="121896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4480" y="525780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i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0"/>
            <a:ext cx="3276720" cy="68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one-fir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two-sec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three-thi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four-four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five-fif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ix-six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even-seven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eight-eigh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nine-nin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en-ten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533520"/>
            <a:ext cx="3886200" cy="54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eleven-eleven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twelve-twelf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irteen-thirteen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fourteen-fourteen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fifteen-fifteen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twenty-twentie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thirty-thirtie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-150840" y="0"/>
            <a:ext cx="939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371600" y="12952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Listen and re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86400" y="2819160"/>
            <a:ext cx="805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ow does Mrs. Li talk to Mrs. Smith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hat happen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at last?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36960" y="761040"/>
            <a:ext cx="282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Comic Sans MS"/>
              </a:rPr>
              <a:t>Let’s a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1827000"/>
            <a:ext cx="754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Jenny’s mother calls Danny’s mother. What do they say?Talk about it with your partn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5638680" cy="4228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85800" y="60948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how ti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1T14:57:58Z</dcterms:created>
  <dc:creator>萍萍</dc:creator>
  <dc:description/>
  <dc:language>en-US</dc:language>
  <cp:lastModifiedBy>lenovo</cp:lastModifiedBy>
  <dcterms:modified xsi:type="dcterms:W3CDTF">2015-06-18T02:02:2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88</vt:lpwstr>
  </property>
  <property fmtid="{D5CDD505-2E9C-101B-9397-08002B2CF9AE}" pid="3" name="Version">
    <vt:r8>1</vt:r8>
  </property>
</Properties>
</file>